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2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move the slide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25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26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6118-D451-4260-A95C-11B41A871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8489-C3CC-49D4-AA2C-2478CD052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7FB3-4AAD-459D-987C-0A9F234B7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BE4-C7A1-4A2E-BA03-2ADD8019E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C903-4E75-49DC-AA11-86F205AA7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1859-1A06-4401-9E65-5F764B01E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0B07-1382-4BAF-8F7D-AA2195581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42FC-0678-494F-BF32-548F7293E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5B62-9C4A-42D0-B53B-55D3072E7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7FEB-2B28-484E-BC04-F801C71E2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26D7-5D14-4EA9-9B95-C12F7FCBB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B2A1-C0F8-4AE3-9193-62E305543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5E2F-80E6-4123-AA30-5CDBEEAD0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9CE9-02AF-4BBE-BD04-1A4A07823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25CE-9349-400D-BE00-044CB9E6E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275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8870-D10F-4A81-82ED-7DB1DC7BA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1868-B44D-4287-90AB-72F465B41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A548-FEC4-452E-8BF9-B4096D9D4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A204-4E20-42A8-B08B-1541BF8CC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5636-60F9-4385-B757-0D86D6F56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02DB-13D0-48B8-8543-430CC9CF4D2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A69F6-CD01-4496-9C85-E4CB951FD8D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DC6DD-A141-4B1F-905A-916846EA39F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0270B-E105-4D3F-8473-3258DCCA759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67DF4-DD6C-4A37-91B8-1853E19E4C4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0B174-7599-4391-869B-5D85FFB06E4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1F0CF-0312-4141-ADE8-1AFF7F52507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F30FF-1E55-4F2A-BC65-A2E05BD2930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68901-BB97-486F-ABC2-FFD639933C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CD14F-F1C2-49B2-BE56-72F748F605F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DA1D9E-FF5C-443A-9CB2-4116C5D9C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A0FE-649F-457B-BBE9-F554A579F6D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1288DA-4265-408C-9CC8-13F84203A69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6D80F4-3211-4536-A7ED-22525E57A01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BB0EA0-9A5D-44EB-8493-90976B41005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7372D6-907A-45D5-8A9E-865B84DDD9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D12F92-A451-4A1F-96E0-3588B29084D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BAB2D8-B3B9-4497-B85F-5D1C5EE90FB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41372C-866A-4502-B7F9-BA7D8AD69D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1C6C13-7F1D-4AD2-B836-76B30D26A63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184A77-894B-4864-98B3-BE1F01BA35B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FFC6C1-2004-46AE-9676-C23D2E8B6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DEBC-4FE1-4433-8A00-4C239D96666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5CF591-7267-490C-8D99-75F798C6CB6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BC849-C502-4918-976F-3B46E0F948D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7E6E5-CDED-4FD6-95E2-C4002B7DDDD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D7492-3588-4FBA-9DC0-5FEA3CA43F9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1776E-5CF4-4113-B647-EA8FD03207A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5C97E-234F-466A-A2AC-5D3CA3E13F7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EF611-0696-46E9-8A41-6A06BC3C83C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ED5BD-E25C-4AE1-A743-210A089EEB5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84EDA-5FAF-4A47-8AF4-5463B73B128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E34E2-19C9-4C88-803B-3F31E84BD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E821E-6848-4AA1-BE98-4D3E7D82D11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1F678-D55A-40E0-8797-F0A3BC9102C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BDEBB-7F8A-4B54-8850-675CF65774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A9A06B-8BE5-4436-A13E-E4455085A76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B89E6-1811-42CB-BAB0-BACF53D1787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D2C6E7-212D-47BE-9427-EAF2E5F2234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0EFE6A-6724-41BA-AC8E-9FC7A6BCB18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257F6A-F83F-4EDF-9BED-7E324A3058E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147DAD-1AF6-4BC7-96D2-135C6F93B6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D8F1DC-BAB7-4A8D-AEF0-1CAF3CC80F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36ECDB-DE58-4DD1-AAF5-5C44F01DCEB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586F42-91D8-49EB-8CD2-2E50E98218C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53A933-9A98-4F7F-BAEF-0D744909E0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2F6B8A-C5FA-456D-BEA3-FFC217F2DFE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84476-F3CC-4076-B584-085ECD497B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35EC-C280-4194-89E7-4B2EBCAD5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D1E03-68C2-49B4-B975-B2FB81B8B1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DF68C-CF5C-4D47-B420-A504117EC0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429CA-2DF2-4815-9378-B0A2E88206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00447-B39E-4602-AEA5-4ECFFAD6F5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EAA23-8BE0-42BB-A967-93E98948E0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B98B-52C3-497E-AE1E-121744D11F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952B9-A26A-4A91-A9EF-D4BB5E497B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6C73F-4DBF-4674-AF22-1B21A39024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14DE5-CBDA-4A7A-9DBD-2144B8D4BE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EE4BB-92BA-4611-9B3D-FC5506C872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A8723-5D68-43F2-9F61-E1D2CAC2E4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B0935-C9A5-4D37-A7DD-792614ED48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AC7DC-91AD-466F-BF28-960FF05052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D09E66-A838-4A90-BA52-CBB79AE9A1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071F8-3098-4951-9043-225F50CB5B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27A73-0A75-409B-A3D6-F0F5BCF76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E0E67-8DCC-40AA-995E-ED53C890EA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DA30D-9C2E-440C-9B0D-A98E2C6713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D9138-3A5B-41D0-B6AD-D5A74E5D75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9F1DE-AF18-4D45-BA39-460854E615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8A3A8-53A2-4B0A-8126-EAB4C4A570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795B9-5018-44DB-A8A7-58ABBBD50A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FE8EF-FD20-4986-86D7-36A429BD40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0CE45-F667-4EDB-8BCD-2251925521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CD0F5-5F00-422B-9B44-CBFAC9ABDB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78EE0-2204-4277-B6E8-03AE065938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AB5B-F1F0-4AD3-BAF4-C3ADB7D1D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E18A-8446-4D0D-9D20-7A920B26A96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B38C-3165-41C7-BD53-1D2E1E55BE8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D40A-C891-4DF7-8F92-D6E3BC8275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7451-43CF-4602-BB7E-B9E1714B5EB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551E-BEE1-4ACA-943B-D8BD03C98F0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BF38-64F3-4EDD-BEE9-8D8ABA89BD3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CC49-C058-412B-AC48-58E3F252E6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C9391-A1C0-47BF-888E-479BE972A93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3796-AF31-4F06-AEBE-CD1EA901793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E2DB-C3DF-421E-8305-C002054665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E7523-E78F-4EAD-B58C-5A086CE9A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A612-909E-4E25-BF08-FC27B57B2A9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51AF-2098-435E-B851-22391A66820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CA846-E6EA-4372-BFCD-2F82A3E3B14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C674E-D4D8-4642-B461-36B9E97159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D0B6B2-5B57-4B41-BDF5-4ACDE61896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DA746-21BF-4CFA-8C7D-3C634ACFB25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BD0B6-9FB8-4808-A800-E76E5DE0844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24C45-AAF8-4D25-9A3B-28A2FA0AAB5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A387EC-6742-4957-8324-B242CEE37A8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8725A2-D314-45A2-B82F-55B3AF4F1EB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A8D96-43A0-420A-8958-9AD098160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05D8-4304-40F7-83F6-85C21489F0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B6D8A-7B92-4377-9866-C3DFF8E849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C64241-46BE-439F-92B1-0B4BE4071D3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C17A0-DA91-4639-8D78-1357433A8E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F3C46D-F27B-420B-BEB4-8F812B1ACD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244FE7-C0CA-4537-B154-03E8DC48BA4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EAC6E2-CC30-4203-BD2F-EC061B3ED9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BA53CD-6F17-45A8-BC99-553D1516429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2734EE-D458-4115-B12A-24DE79EEB3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3C63C8-2C41-4A74-8528-D66B3317739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28801F-7D9E-4B28-8513-EDF5E3EDA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A0FB-58F8-4108-9471-F6A418D205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B090AB-B579-4300-84BC-E7380B923F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08DD66-7B72-4675-84BD-FD5CE605DE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6F6E77-72F7-4E7C-8916-AC21474F29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4F5C2C-BE0E-40B3-84B7-A832C9AF75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099F2E-6CC1-46E0-B452-D1B96D47EB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F767C-D2FA-4D22-BF52-83004143BBF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72C43-5D9F-4A17-A96A-CABDC5629E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F0D76-46FA-492B-B271-0D21A6852D9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4772C-2527-4B0D-8E6E-DDA5E2A76A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C51CC-8FCA-42A0-A4DD-FA8CC4365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A751-22C6-45B4-93F6-1B0887E28EF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22360" y="51912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6D23-1EAE-4AB7-9056-58349DEBB97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18406-569B-40C7-8C34-27DFB46BCD1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5307C-E91E-4257-9633-566B044BB5A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4D360-5B8A-4DCF-B79E-D630FDBBE8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0840" y="3878640"/>
            <a:ext cx="8102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BAECC-4439-47E7-A4C2-48397359011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2720" y="13712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084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2720" y="3878640"/>
            <a:ext cx="3953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B2B1F-9BBA-4A19-A26C-5BC72CFC98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044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90400" y="13712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108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044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90400" y="3878640"/>
            <a:ext cx="260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D5DEE-F588-4057-AAD8-7606332EE69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14F977-2E30-489D-96A9-D279874A0F3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DCEF4-8359-4F7B-96AD-532B4E64BE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AD4DE-B868-40CD-A4EC-706460BF2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BEF603A6-B424-4230-90D5-4B5528FD866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8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19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ADE827DB-C37F-493B-9238-7720148DF85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20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1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8856B186-6EA4-40B6-BD58-62E18969FA8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2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3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4F7AC3E8-D140-4E88-8E92-51E04DA8812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32"/>
          <p:cNvSpPr/>
          <p:nvPr/>
        </p:nvSpPr>
        <p:spPr>
          <a:xfrm>
            <a:off x="0" y="433224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4400" rIns="914400" tIns="46800" bIns="46800" anchor="ctr" anchorCtr="1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lobal Strategy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ke W. Pe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4"/>
          <p:cNvSpPr/>
          <p:nvPr/>
        </p:nvSpPr>
        <p:spPr>
          <a:xfrm rot="16200000">
            <a:off x="-105480" y="2320200"/>
            <a:ext cx="213336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Book Antiqua"/>
              </a:rPr>
              <a:t>c h a p t e 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5"/>
          <p:cNvSpPr/>
          <p:nvPr/>
        </p:nvSpPr>
        <p:spPr>
          <a:xfrm>
            <a:off x="434880" y="456840"/>
            <a:ext cx="10670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Book Antiqua"/>
              </a:rPr>
              <a:t>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0" y="6171840"/>
            <a:ext cx="914400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61880"/>
                <a:tab algn="r" pos="8454960"/>
                <a:tab algn="l" pos="9067680"/>
                <a:tab algn="l" pos="10578960"/>
              </a:tabLst>
              <a:defRPr b="0" lang="en-US" sz="2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1880"/>
                <a:tab algn="r" pos="8454960"/>
                <a:tab algn="l" pos="9067680"/>
                <a:tab algn="l" pos="1057896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1FF5656A-BEE2-484D-87AA-66FDCCC9257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6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7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71BB0B23-7466-4622-97D6-3165BD43EDC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6E1E816C-B571-4B3F-864B-28D77345F6D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0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1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D0B72F12-CB33-447F-B0C3-C5737827FC8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2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3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4015D096-CB0E-4172-BC9D-7B9F891FD86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4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5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0B337458-1580-40EA-B99B-44D03D29B18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6"/>
          </p:nvPr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14 Cengage Learning. All Rights Reserved. May not be scanned, copied or duplicated, or posted to a publicly accessible website, in whole or in par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7"/>
          </p:nvPr>
        </p:nvSpPr>
        <p:spPr>
          <a:xfrm>
            <a:off x="6400800" y="6172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</a:t>
            </a:r>
            <a:fld id="{A7B44CCA-F360-4B9F-8B57-1D1EC3A1BDA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33" descr="C:\Users\jdwells\AppData\Local\Microsoft\Windows\Temporary Internet Files\Content.IE5\QWM395O8\MC900437103[1].wmf"/>
          <p:cNvPicPr/>
          <p:nvPr/>
        </p:nvPicPr>
        <p:blipFill>
          <a:blip r:embed="rId1"/>
          <a:stretch/>
        </p:blipFill>
        <p:spPr>
          <a:xfrm>
            <a:off x="3084480" y="0"/>
            <a:ext cx="6097680" cy="447984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4"/>
          <p:cNvSpPr/>
          <p:nvPr/>
        </p:nvSpPr>
        <p:spPr>
          <a:xfrm>
            <a:off x="0" y="6448320"/>
            <a:ext cx="9144000" cy="41904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61880"/>
                <a:tab algn="r" pos="8454960"/>
                <a:tab algn="l" pos="9067680"/>
                <a:tab algn="l" pos="1057896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8"/>
          <p:cNvSpPr/>
          <p:nvPr/>
        </p:nvSpPr>
        <p:spPr>
          <a:xfrm>
            <a:off x="0" y="0"/>
            <a:ext cx="3124080" cy="4332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0"/>
          <p:cNvSpPr/>
          <p:nvPr/>
        </p:nvSpPr>
        <p:spPr>
          <a:xfrm>
            <a:off x="0" y="4332240"/>
            <a:ext cx="9144000" cy="214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4400" rIns="914400" tIns="46800" bIns="46800" anchor="ctr" anchorCtr="1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Global Strategy</a:t>
            </a:r>
            <a:br>
              <a:rPr sz="48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ke W. Pe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"/>
          <p:cNvSpPr/>
          <p:nvPr/>
        </p:nvSpPr>
        <p:spPr>
          <a:xfrm>
            <a:off x="22320" y="533520"/>
            <a:ext cx="3124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03030"/>
                </a:solidFill>
                <a:uFillTx/>
                <a:latin typeface="Gill Sans MT"/>
                <a:ea typeface="Calibri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03030"/>
                </a:solidFill>
                <a:latin typeface="Calibri"/>
                <a:ea typeface="Calibri"/>
              </a:rPr>
              <a:t>Growing and Internationalizing the Entrepreneurial Fir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ial Strategies: Network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0840" y="1219320"/>
            <a:ext cx="810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ally construct and tap into relationships, connections, and ties that individuals and organizations have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personal networks into value-adding organization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ing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Needed to overcome liability of newness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Intensity of relationships is importan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Networks represent significant resources and opportunitie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May lead to successful entrepreneurial performanc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entrally located network positions are most helpfu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ial Strategies: </a:t>
            </a:r>
            <a:br>
              <a:rPr sz="3200"/>
            </a:br>
            <a:r>
              <a:rPr b="1" i="1" lang="en-US" sz="2800" spc="-1" strike="noStrike">
                <a:solidFill>
                  <a:srgbClr val="800000"/>
                </a:solidFill>
                <a:latin typeface="Book Antiqua"/>
                <a:ea typeface="SimSun"/>
              </a:rPr>
              <a:t>Financing and Governance</a:t>
            </a:r>
            <a:endParaRPr b="1" lang="en-US" sz="28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10840" y="1676520"/>
            <a:ext cx="8102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utside investors usually demand collateral or some other assu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19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dds for survival during crucial early years are significantly correlated with fir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aster a new start-up can reach a certain size, the more likely it will surviv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lnSpc>
                <a:spcPct val="9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Entrepreneurs often choose to accept more outside investment in order to reach a large siz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2"/>
          <p:cNvSpPr/>
          <p:nvPr/>
        </p:nvSpPr>
        <p:spPr>
          <a:xfrm>
            <a:off x="293760" y="6400800"/>
            <a:ext cx="833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22360" y="579600"/>
            <a:ext cx="807696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- and Four-Year Survival Rates by Firm Size</a:t>
            </a:r>
            <a:endParaRPr b="1" lang="en-US" sz="24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7974000" y="6232680"/>
            <a:ext cx="65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5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44600" y="6205680"/>
            <a:ext cx="620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Adapted from J. Timmons, 1999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w Venture Creatio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p. 33), Boston: Irwin McGraw-Hill, based on US data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6"/>
          <p:cNvSpPr/>
          <p:nvPr/>
        </p:nvSpPr>
        <p:spPr>
          <a:xfrm>
            <a:off x="685800" y="1600200"/>
            <a:ext cx="78487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4551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841680" y="167652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M SIZ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2579760" y="1663560"/>
            <a:ext cx="174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CES OF SURVIV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5016960" y="166356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M SIZ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6770880" y="1663560"/>
            <a:ext cx="174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CES OF SURVIV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750240" y="189216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MPLOYEE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2807640" y="189216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1 YEA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3"/>
          <p:cNvSpPr/>
          <p:nvPr/>
        </p:nvSpPr>
        <p:spPr>
          <a:xfrm>
            <a:off x="4941000" y="189216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MPLOYEE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4"/>
          <p:cNvSpPr/>
          <p:nvPr/>
        </p:nvSpPr>
        <p:spPr>
          <a:xfrm>
            <a:off x="6998400" y="189216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4 YEA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5"/>
          <p:cNvSpPr/>
          <p:nvPr/>
        </p:nvSpPr>
        <p:spPr>
          <a:xfrm>
            <a:off x="679320" y="2133720"/>
            <a:ext cx="785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6"/>
          <p:cNvSpPr/>
          <p:nvPr/>
        </p:nvSpPr>
        <p:spPr>
          <a:xfrm>
            <a:off x="1068840" y="21146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-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3110400" y="21146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5259960" y="21146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-1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7301520" y="21146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977760" y="23493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-1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110400" y="23493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5168520" y="23493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4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7301520" y="23493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977760" y="25779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9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7"/>
          <p:cNvSpPr/>
          <p:nvPr/>
        </p:nvSpPr>
        <p:spPr>
          <a:xfrm>
            <a:off x="3110400" y="25779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8"/>
          <p:cNvSpPr/>
          <p:nvPr/>
        </p:nvSpPr>
        <p:spPr>
          <a:xfrm>
            <a:off x="5168520" y="25779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-9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9"/>
          <p:cNvSpPr/>
          <p:nvPr/>
        </p:nvSpPr>
        <p:spPr>
          <a:xfrm>
            <a:off x="7301520" y="25779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0"/>
          <p:cNvSpPr/>
          <p:nvPr/>
        </p:nvSpPr>
        <p:spPr>
          <a:xfrm>
            <a:off x="917640" y="28036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-24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3110400" y="2803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5092920" y="28036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-49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3"/>
          <p:cNvSpPr/>
          <p:nvPr/>
        </p:nvSpPr>
        <p:spPr>
          <a:xfrm>
            <a:off x="7301520" y="2803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4"/>
          <p:cNvSpPr/>
          <p:nvPr/>
        </p:nvSpPr>
        <p:spPr>
          <a:xfrm>
            <a:off x="993600" y="303228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0+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5"/>
          <p:cNvSpPr/>
          <p:nvPr/>
        </p:nvSpPr>
        <p:spPr>
          <a:xfrm>
            <a:off x="3035160" y="30322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6"/>
          <p:cNvSpPr/>
          <p:nvPr/>
        </p:nvSpPr>
        <p:spPr>
          <a:xfrm>
            <a:off x="4572000" y="1604880"/>
            <a:ext cx="0" cy="174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ial Strategies: </a:t>
            </a:r>
            <a:br>
              <a:rPr sz="3200"/>
            </a:br>
            <a:r>
              <a:rPr b="1" i="1" lang="en-US" sz="2800" spc="-1" strike="noStrike">
                <a:solidFill>
                  <a:srgbClr val="800000"/>
                </a:solidFill>
                <a:latin typeface="Book Antiqua"/>
                <a:ea typeface="SimSun"/>
              </a:rPr>
              <a:t>Harvest and Exit</a:t>
            </a:r>
            <a:endParaRPr b="1" lang="en-US" sz="28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0840" y="160020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out” does not necessarily mean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s for entrepreneurial harvest and ex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elling an equity stak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elling the busines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erging with another firm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Going public with an initial public offering (IPO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claring bankruptc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22360" y="579600"/>
            <a:ext cx="807696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tages and Disadvantages of 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itial Public Offering (IPO)</a:t>
            </a:r>
            <a:endParaRPr b="1" lang="en-US" sz="24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74" name="AutoShape 6"/>
          <p:cNvSpPr/>
          <p:nvPr/>
        </p:nvSpPr>
        <p:spPr>
          <a:xfrm>
            <a:off x="380880" y="1523880"/>
            <a:ext cx="838224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4551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380880" y="1905120"/>
            <a:ext cx="836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20920" y="1663560"/>
            <a:ext cx="106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5245560" y="166356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0"/>
          <p:cNvSpPr/>
          <p:nvPr/>
        </p:nvSpPr>
        <p:spPr>
          <a:xfrm>
            <a:off x="5029200" y="1523880"/>
            <a:ext cx="0" cy="227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528480" y="1981080"/>
            <a:ext cx="20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oved financial condi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5253840" y="1981080"/>
            <a:ext cx="27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ject to the whims of financial marke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523080" y="22035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 to more capita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5246280" y="2203560"/>
            <a:ext cx="237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ced to focus on the short ter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523800" y="2425680"/>
            <a:ext cx="24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ersification of shareholder bas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5247000" y="2425680"/>
            <a:ext cx="221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s of entrepreneurial contro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521280" y="2654280"/>
            <a:ext cx="144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ility to cash ou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5249520" y="2654280"/>
            <a:ext cx="316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fiduciary responsibilities for shareholde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9"/>
          <p:cNvSpPr/>
          <p:nvPr/>
        </p:nvSpPr>
        <p:spPr>
          <a:xfrm>
            <a:off x="524160" y="2882880"/>
            <a:ext cx="265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 and employee incentiv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5246640" y="2882880"/>
            <a:ext cx="12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s of privac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523080" y="3111480"/>
            <a:ext cx="22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hanced corporate reput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2"/>
          <p:cNvSpPr/>
          <p:nvPr/>
        </p:nvSpPr>
        <p:spPr>
          <a:xfrm>
            <a:off x="5247000" y="3111480"/>
            <a:ext cx="292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mits on management’s freedom of ac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3"/>
          <p:cNvSpPr/>
          <p:nvPr/>
        </p:nvSpPr>
        <p:spPr>
          <a:xfrm>
            <a:off x="522360" y="3336840"/>
            <a:ext cx="283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ater opportunity for future acquisi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4"/>
          <p:cNvSpPr/>
          <p:nvPr/>
        </p:nvSpPr>
        <p:spPr>
          <a:xfrm>
            <a:off x="5246640" y="3352680"/>
            <a:ext cx="218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mands of periodic report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"/>
          <p:cNvSpPr/>
          <p:nvPr/>
        </p:nvSpPr>
        <p:spPr>
          <a:xfrm>
            <a:off x="6714360" y="640080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ble 5.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22360" y="5187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Internationalizing the Entrepreneurial Firm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0840" y="160020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Entrepreneurs are challenging myths about internation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ransaction costs are hi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strategies for entering foreign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irect exporting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icensing or franchising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oreign direct investment (FDI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22360" y="5187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Internationalizing the Entrepreneurial Firm (cont’d)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10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strategies for staying in domestic mar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direct exporting through domestic - based export intermediari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ecome suppliers of foreign firms doing business in one’s home countr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ecome licensees or franchisees of foreign brand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ecome alliance partners of foreign direct investor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arvest and exit through sell-offs to foreign firm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2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22360" y="579600"/>
            <a:ext cx="807696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tionalization Strategies for Entrepreneurial Firms</a:t>
            </a:r>
            <a:endParaRPr b="1" lang="en-US" sz="24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04" name="AutoShape 5"/>
          <p:cNvSpPr/>
          <p:nvPr/>
        </p:nvSpPr>
        <p:spPr>
          <a:xfrm>
            <a:off x="685800" y="1295280"/>
            <a:ext cx="7696080" cy="221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4551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"/>
          <p:cNvSpPr/>
          <p:nvPr/>
        </p:nvSpPr>
        <p:spPr>
          <a:xfrm>
            <a:off x="685800" y="166356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751320" y="1434960"/>
            <a:ext cx="21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ERING FOREIGN MARKET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4638600" y="1434960"/>
            <a:ext cx="22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YING IN DOMESTIC MARKET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750960" y="1663560"/>
            <a:ext cx="119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rect export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4637880" y="1663560"/>
            <a:ext cx="2864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rect exports (through domestic ex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mediarie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750960" y="1968480"/>
            <a:ext cx="164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nchising/licens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767160" y="2197080"/>
            <a:ext cx="429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ign direct investment (through green-field wholly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wned subsidiaries, strategic alliances, and/or foreig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quisition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4637160" y="2133720"/>
            <a:ext cx="181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lier of foreign fir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4638960" y="2349360"/>
            <a:ext cx="262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nchisee/licensee of foreign bran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4639320" y="2577960"/>
            <a:ext cx="289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iance partner of foreign direct investo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7"/>
          <p:cNvSpPr/>
          <p:nvPr/>
        </p:nvSpPr>
        <p:spPr>
          <a:xfrm>
            <a:off x="4637520" y="2882880"/>
            <a:ext cx="358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vest and exit (though sell-off to and acquisition b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ign entrant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8"/>
          <p:cNvSpPr/>
          <p:nvPr/>
        </p:nvSpPr>
        <p:spPr>
          <a:xfrm>
            <a:off x="4495680" y="1289160"/>
            <a:ext cx="0" cy="22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"/>
          <p:cNvSpPr/>
          <p:nvPr/>
        </p:nvSpPr>
        <p:spPr>
          <a:xfrm>
            <a:off x="6786000" y="640080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ble 5.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Debates and Extensions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ts versus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low internationalizers versus born global start-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nti-failure biases versus entrepreneur-friendly bankruptc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The Savvy Entrepreneur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epreneurs are engines of creative destruct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Insights on entrepreneurship by the three leading perspectives on strategy: Industry, Resource, and Institution view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Four fundamental questions in strategy provide insigh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Outline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Entrepreneurship, entrepreneurs, and entrepreneurial fi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comprehensive model of entrepreneu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Five entrepreneurial strate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nternationalizing the entrepreneurial fi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bates and exten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he savvy entrepren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3"/>
          <p:cNvSpPr/>
          <p:nvPr/>
        </p:nvSpPr>
        <p:spPr>
          <a:xfrm>
            <a:off x="533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ship, Entrepreneurs, and Entrepreneurial Firms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10840" y="1676160"/>
            <a:ext cx="810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0960" indent="-21096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ntrepreneurship - the identification and exploitation of previously unexplore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ntrepreneurs - set of individuals who discover, evaluate, and exploi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6964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SimSun"/>
              </a:rPr>
              <a:t>Founders and owners of new businesses or managers of existing firm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Not the exclusive domain of small, young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mall and medium-sized enterprises (SMEs) glob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000" indent="-26964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SimSun"/>
              </a:rPr>
              <a:t>95% of all firm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594000" indent="-26964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SimSun"/>
              </a:rPr>
              <a:t>Create 50% of total value added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594000" indent="-26964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Generate 60-90% of all employmen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594000" indent="-26964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Only a small number of entrepreneurial firms surviv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2"/>
          <p:cNvSpPr/>
          <p:nvPr/>
        </p:nvSpPr>
        <p:spPr>
          <a:xfrm>
            <a:off x="571680" y="62946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7"/>
          <p:cNvSpPr/>
          <p:nvPr/>
        </p:nvSpPr>
        <p:spPr>
          <a:xfrm>
            <a:off x="914400" y="304920"/>
            <a:ext cx="7391520" cy="586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4551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"/>
          <p:cNvPicPr/>
          <p:nvPr/>
        </p:nvPicPr>
        <p:blipFill>
          <a:blip r:embed="rId2"/>
          <a:stretch/>
        </p:blipFill>
        <p:spPr>
          <a:xfrm>
            <a:off x="2124000" y="514440"/>
            <a:ext cx="5800680" cy="5419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3240" y="2971440"/>
            <a:ext cx="30592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Comprehensive Model of Entrepreneurship</a:t>
            </a:r>
            <a:endParaRPr b="1" lang="en-US" sz="20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06" name="TextBox 1"/>
          <p:cNvSpPr/>
          <p:nvPr/>
        </p:nvSpPr>
        <p:spPr>
          <a:xfrm>
            <a:off x="6481800" y="640080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gure 5.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22360" y="5187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A Comprehensive Model of Entrepreneurship Resource Based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10840" y="160020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ndustry-based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Intensity of inter-firm rivalr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ewer incumbents, more likely to collude to keep out newcomer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y barriers: capital intensiv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Bargaining power of suppliers: how to reduce i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Bargaining power of buyers: how to reduce i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Threat of substitute products/servic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22360" y="518760"/>
            <a:ext cx="807696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</a:rPr>
              <a:t>A Comprehensive Model of Entrepreneurship Resource Based (cont’d)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10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-based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epreneurial resources must create VRIO (value, rare, inimitable, organizationally embedded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22120" indent="-222120">
              <a:spcBef>
                <a:spcPts val="14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nstitution-based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Formal institutions govern new ventur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Striking differences in government regulations of start-up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Five Entrepreneurial Strategies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Financing/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Harvest/ex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225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sixth strategy, internationalization, will be covered in the nex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ial Strategies: Growth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he excitement of growing a new company is oftentimes what attracts entrepreneurs in the first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ttempt to utilize resources and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epreneurial vis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epreneurial driv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Entrepreneurial leadership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5335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14 Cengage Learning. All Rights Reserved. May not be scanned, copied or duplicated, or posted to a publicly accessible website, in whole or in part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22360" y="519120"/>
            <a:ext cx="807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 Antiqua"/>
                <a:ea typeface="SimSun"/>
              </a:rPr>
              <a:t>Entrepreneurial Strategies: Innovation</a:t>
            </a:r>
            <a:endParaRPr b="1" lang="en-US" sz="3200" spc="-1" strike="noStrike">
              <a:solidFill>
                <a:srgbClr val="800000"/>
              </a:solidFill>
              <a:latin typeface="Book Antiqu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10840" y="1371240"/>
            <a:ext cx="810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n innovation strategy is a specialized form of differen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8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dvantages of an innov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Creates a more sustainable competitive advantag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974880" indent="-235080"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echnological breakthroughs and organizational innovations (new ways of doing busi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SimSun"/>
              </a:rPr>
              <a:t>Owners, managers, and employees at entrepreneurial firms are more innovative and risk-taking than those at large firm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0:38:55Z</dcterms:created>
  <dc:creator>Charlie Cook, University of West Alabama</dc:creator>
  <dc:description/>
  <dc:language>en-US</dc:language>
  <cp:lastModifiedBy>Josh Wells</cp:lastModifiedBy>
  <dcterms:modified xsi:type="dcterms:W3CDTF">2012-10-23T15:44:55Z</dcterms:modified>
  <cp:revision>116</cp:revision>
  <dc:subject>Chapter 5</dc:subject>
  <dc:title>Global Strategy 1e. - Michael Peng</dc:title>
</cp:coreProperties>
</file>